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27.png" ContentType="image/png"/>
  <Override PartName="/ppt/media/image33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37.png" ContentType="image/png"/>
  <Override PartName="/ppt/media/image10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0.png" ContentType="image/png"/>
  <Override PartName="/ppt/media/image35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7.png" ContentType="image/png"/>
  <Override PartName="/ppt/media/image19.png" ContentType="image/png"/>
  <Override PartName="/ppt/media/image1.jpeg" ContentType="image/jpeg"/>
  <Override PartName="/ppt/media/image21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51.png" ContentType="image/png"/>
  <Override PartName="/ppt/media/image23.png" ContentType="image/png"/>
  <Override PartName="/ppt/media/image53.jpeg" ContentType="image/jpeg"/>
  <Override PartName="/ppt/media/image54.png" ContentType="image/png"/>
  <Override PartName="/ppt/media/image55.png" ContentType="image/png"/>
  <Override PartName="/ppt/media/image56.png" ContentType="image/png"/>
  <Override PartName="/ppt/media/image58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95E-A0C6-48EF-96DA-BB8F5214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5C9-684F-4655-B821-1F5FE9D6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709-8661-4675-8115-9F131448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790-8614-4E5D-A674-287ECD83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F0F8-CD58-4512-815D-ED3F028C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6A8-90AE-4FCD-BD90-4C400650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BE48-798E-4D1B-BB7D-7E698A3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491-206C-4E2B-9AA2-8F4B10AD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BF89-6432-4314-B986-9182C04B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F64D-FAFE-4246-8E2A-7492E4EC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3468-EC81-4ACD-AD3F-312C2043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264-3D5E-41D8-9EE7-DA66560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07E1-2611-4B0B-A265-EDAF740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C0D3-51F6-46B0-9266-98B39E0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90B-FC0D-484F-B276-2BE8D379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480D-E0B0-4AEE-AE68-F2F705C8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989-B2B5-453B-88AD-423250B9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3C28B-0128-4E64-8B2A-39877B36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63F7B-EECF-4DEF-AAE0-5E23B2A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6D901-319B-42BA-9754-A934CBA3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A51A6-FB7D-49FB-9A39-C70D332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A9428-2A09-4D0E-A0E2-7015152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5AD-4E0E-4623-B130-2A80FD9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AFEB2-9D63-413B-85C7-BD1F511D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A5A0E-EC98-4813-8150-605490F1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199AC-5D38-4C81-93DA-6F21F49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ED9A6-9FBB-4BF4-935A-2D17904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8148C-C75B-40EA-BDD5-847AB36E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8C403-23AC-4BF6-A522-494C14F8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B97DB-9E1F-4A55-8351-B5881417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39A6-4D4B-400F-93E2-C1C82010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5C7B-70BD-4693-BF39-CF97E895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16893-AE80-422F-A6F7-261A58BC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30D-1696-456C-8F7D-2B52493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D1804-D2E1-48BA-85F5-9B98D28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EBA9-C5BC-422E-956B-582A831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6DC2-CC3A-41CB-8817-5FFC389F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FA17-DC5A-4E79-9899-C0DC708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5FF90-9AAF-4478-AF02-F4A0AE6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6423F-4508-4CA2-AFC9-D9A0617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B422-883B-45AE-AC7D-C386489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626F-540E-498D-8BBD-5FD6DA7C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6057-2FD3-49B8-8955-F1C30093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CD2-38C1-45BE-89D8-94CECE5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529-E4AA-41F0-93F5-513D41DC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75F-CD7C-4A70-B56D-A60C916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769-DF08-42AA-95BC-5BF47896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41C-7ABF-4C14-9BD0-CF575BC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37C-8637-4FAE-BD0D-C5F62FBDEF8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9E3-DBB6-4E0E-B28A-741CC36BD25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D5ED-E801-4F79-84C9-25AA66684EC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FEEC-F08D-443F-B8A2-6FBC65AE639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http://ds1930.mskobr.ru/images/cms/data/mblema.jpg"/>
          <p:cNvPicPr/>
          <p:nvPr/>
        </p:nvPicPr>
        <p:blipFill>
          <a:blip r:embed="rId1"/>
          <a:srcRect l="0" t="8839" r="0" b="0"/>
          <a:stretch/>
        </p:blipFill>
        <p:spPr>
          <a:xfrm>
            <a:off x="539640" y="692280"/>
            <a:ext cx="7952040" cy="589752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" descr=""/>
          <p:cNvPicPr/>
          <p:nvPr/>
        </p:nvPicPr>
        <p:blipFill>
          <a:blip r:embed="rId2"/>
          <a:stretch/>
        </p:blipFill>
        <p:spPr>
          <a:xfrm>
            <a:off x="1414440" y="2712960"/>
            <a:ext cx="559584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395280" y="549360"/>
            <a:ext cx="828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пиши или зарисуй план доклада о вулкана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Загнутый угол 2"/>
          <p:cNvSpPr/>
          <p:nvPr/>
        </p:nvSpPr>
        <p:spPr>
          <a:xfrm>
            <a:off x="237960" y="1077840"/>
            <a:ext cx="4950000" cy="30877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493560" y="1268280"/>
            <a:ext cx="44388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47" name="Загнутый угол 5"/>
          <p:cNvGrpSpPr/>
          <p:nvPr/>
        </p:nvGrpSpPr>
        <p:grpSpPr>
          <a:xfrm>
            <a:off x="5589720" y="1042920"/>
            <a:ext cx="3511440" cy="4224240"/>
            <a:chOff x="5589720" y="1042920"/>
            <a:chExt cx="3511440" cy="4224240"/>
          </a:xfrm>
        </p:grpSpPr>
        <p:pic>
          <p:nvPicPr>
            <p:cNvPr id="348" name="Загнутый угол 5" descr=""/>
            <p:cNvPicPr/>
            <p:nvPr/>
          </p:nvPicPr>
          <p:blipFill>
            <a:blip r:embed="rId2"/>
            <a:stretch/>
          </p:blipFill>
          <p:spPr>
            <a:xfrm>
              <a:off x="5589720" y="1042920"/>
              <a:ext cx="3511440" cy="42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651640" y="1077840"/>
              <a:ext cx="3386160" cy="35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50" name="Загнутый угол 6"/>
          <p:cNvSpPr/>
          <p:nvPr/>
        </p:nvSpPr>
        <p:spPr>
          <a:xfrm>
            <a:off x="1116000" y="3645000"/>
            <a:ext cx="4951440" cy="30747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Рисунок 7" descr=""/>
          <p:cNvPicPr/>
          <p:nvPr/>
        </p:nvPicPr>
        <p:blipFill>
          <a:blip r:embed="rId3"/>
          <a:stretch/>
        </p:blipFill>
        <p:spPr>
          <a:xfrm>
            <a:off x="1414440" y="4073400"/>
            <a:ext cx="4416480" cy="247968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8"/>
          <p:cNvSpPr/>
          <p:nvPr/>
        </p:nvSpPr>
        <p:spPr>
          <a:xfrm>
            <a:off x="6389640" y="5313240"/>
            <a:ext cx="26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Составив свой доклад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расшифруй наш 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сравни, чей рассказ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полнее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34200" y="76500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ши источники информаци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Рисунок 88" descr="Описание: J:\DCIM\119CANON\IMG_2902.JPG"/>
          <p:cNvPicPr/>
          <p:nvPr/>
        </p:nvPicPr>
        <p:blipFill>
          <a:blip r:embed="rId1"/>
          <a:stretch/>
        </p:blipFill>
        <p:spPr>
          <a:xfrm>
            <a:off x="6227640" y="677880"/>
            <a:ext cx="2667240" cy="33717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9" descr="Описание: J:\DCIM\119CANON\IMG_2904.JPG"/>
          <p:cNvPicPr/>
          <p:nvPr/>
        </p:nvPicPr>
        <p:blipFill>
          <a:blip r:embed="rId2"/>
          <a:stretch/>
        </p:blipFill>
        <p:spPr>
          <a:xfrm>
            <a:off x="3995640" y="1133640"/>
            <a:ext cx="1971720" cy="292392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90" descr="Описание: J:\DCIM\119CANON\IMG_2905.JPG"/>
          <p:cNvPicPr/>
          <p:nvPr/>
        </p:nvPicPr>
        <p:blipFill>
          <a:blip r:embed="rId3"/>
          <a:stretch/>
        </p:blipFill>
        <p:spPr>
          <a:xfrm>
            <a:off x="468360" y="1484280"/>
            <a:ext cx="2981160" cy="31338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4448880" y="291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121280" y="36298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055760" y="655416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0" y="988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Рисунок 9" descr="J:\DCIM\119CANON\IMG_2906.JPG"/>
          <p:cNvPicPr/>
          <p:nvPr/>
        </p:nvPicPr>
        <p:blipFill>
          <a:blip r:embed="rId4"/>
          <a:stretch/>
        </p:blipFill>
        <p:spPr>
          <a:xfrm>
            <a:off x="2960640" y="2451240"/>
            <a:ext cx="3222720" cy="195552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6"/>
          <p:cNvSpPr/>
          <p:nvPr/>
        </p:nvSpPr>
        <p:spPr>
          <a:xfrm>
            <a:off x="275256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еоролик: http://www.youtube.com/watch?v=xMEGnTlYOW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нутый угол 5"/>
          <p:cNvSpPr/>
          <p:nvPr/>
        </p:nvSpPr>
        <p:spPr>
          <a:xfrm>
            <a:off x="303120" y="3851280"/>
            <a:ext cx="2529000" cy="1817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1000" y="1795320"/>
          <a:ext cx="3127320" cy="1927440"/>
        </p:xfrm>
        <a:graphic>
          <a:graphicData uri="http://schemas.openxmlformats.org/drawingml/2006/table">
            <a:tbl>
              <a:tblPr/>
              <a:tblGrid>
                <a:gridCol w="2766960"/>
                <a:gridCol w="360360"/>
              </a:tblGrid>
              <a:tr h="192744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34c22"/>
                          </a:solidFill>
                          <a:latin typeface="Comic Sans MS"/>
                        </a:rPr>
                        <a:t>Брызгаю огн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34c22"/>
                          </a:solidFill>
                          <a:latin typeface="Comic Sans MS"/>
                        </a:rPr>
                        <a:t>и лаво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34c22"/>
                          </a:solidFill>
                          <a:latin typeface="Comic Sans MS"/>
                        </a:rPr>
                        <a:t>Я – опасный велик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34c22"/>
                          </a:solidFill>
                          <a:latin typeface="Comic Sans MS"/>
                        </a:rPr>
                        <a:t>Славен я недобр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34c22"/>
                          </a:solidFill>
                          <a:latin typeface="Comic Sans MS"/>
                        </a:rPr>
                        <a:t>сла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34c22"/>
                          </a:solidFill>
                          <a:latin typeface="Comic Sans MS"/>
                        </a:rPr>
                        <a:t>Как зовут мен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 w="4320">
                      <a:solidFill>
                        <a:srgbClr val="8b5d3d"/>
                      </a:solidFill>
                    </a:lnL>
                    <a:lnR>
                      <a:noFill/>
                    </a:lnR>
                    <a:lnT w="4320">
                      <a:solidFill>
                        <a:srgbClr val="8b5d3d"/>
                      </a:solidFill>
                    </a:lnT>
                    <a:lnB w="4320">
                      <a:solidFill>
                        <a:srgbClr val="8b5d3d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160" marR="56160">
                    <a:lnL>
                      <a:noFill/>
                    </a:lnL>
                    <a:lnR w="4320">
                      <a:solidFill>
                        <a:srgbClr val="8b5d3d"/>
                      </a:solidFill>
                    </a:lnR>
                    <a:lnT w="4320">
                      <a:solidFill>
                        <a:srgbClr val="8b5d3d"/>
                      </a:solidFill>
                    </a:lnT>
                    <a:lnB w="4320">
                      <a:solidFill>
                        <a:srgbClr val="8b5d3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Рисунок 22" descr="Описание: J:\DCIM\119CANON\IMG_2851.JPG"/>
          <p:cNvPicPr/>
          <p:nvPr/>
        </p:nvPicPr>
        <p:blipFill>
          <a:blip r:embed="rId1"/>
          <a:stretch/>
        </p:blipFill>
        <p:spPr>
          <a:xfrm>
            <a:off x="4638600" y="2455920"/>
            <a:ext cx="2181240" cy="16383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I:\DCIM\119CANON\IMG_2365.JPG"/>
          <p:cNvPicPr/>
          <p:nvPr/>
        </p:nvPicPr>
        <p:blipFill>
          <a:blip r:embed="rId2"/>
          <a:stretch/>
        </p:blipFill>
        <p:spPr>
          <a:xfrm>
            <a:off x="2498760" y="2206800"/>
            <a:ext cx="1994040" cy="27255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I:\DCIM\119CANON\IMG_2367.JPG"/>
          <p:cNvPicPr/>
          <p:nvPr/>
        </p:nvPicPr>
        <p:blipFill>
          <a:blip r:embed="rId3"/>
          <a:stretch/>
        </p:blipFill>
        <p:spPr>
          <a:xfrm>
            <a:off x="6924600" y="2273400"/>
            <a:ext cx="2163960" cy="2921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I:\DCIM\119CANON\IMG_2368.JPG"/>
          <p:cNvPicPr/>
          <p:nvPr/>
        </p:nvPicPr>
        <p:blipFill>
          <a:blip r:embed="rId4"/>
          <a:stretch/>
        </p:blipFill>
        <p:spPr>
          <a:xfrm>
            <a:off x="2968560" y="417024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9" descr="I:\DCIM\119CANON\IMG_2369.JPG"/>
          <p:cNvPicPr/>
          <p:nvPr/>
        </p:nvPicPr>
        <p:blipFill>
          <a:blip r:embed="rId5"/>
          <a:stretch/>
        </p:blipFill>
        <p:spPr>
          <a:xfrm>
            <a:off x="6986520" y="4108320"/>
            <a:ext cx="2041560" cy="2627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0" descr="I:\DCIM\119CANON\IMG_2366.JPG"/>
          <p:cNvPicPr/>
          <p:nvPr/>
        </p:nvPicPr>
        <p:blipFill>
          <a:blip r:embed="rId6"/>
          <a:stretch/>
        </p:blipFill>
        <p:spPr>
          <a:xfrm>
            <a:off x="4913280" y="5248440"/>
            <a:ext cx="2212920" cy="293184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8" descr=""/>
          <p:cNvPicPr/>
          <p:nvPr/>
        </p:nvPicPr>
        <p:blipFill>
          <a:blip r:embed="rId7"/>
          <a:stretch/>
        </p:blipFill>
        <p:spPr>
          <a:xfrm>
            <a:off x="23760" y="262080"/>
            <a:ext cx="8894880" cy="14745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1"/>
          <p:cNvSpPr/>
          <p:nvPr/>
        </p:nvSpPr>
        <p:spPr>
          <a:xfrm>
            <a:off x="77760" y="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1848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Comic Sans MS"/>
                <a:ea typeface="Times New Roman"/>
              </a:rPr>
              <a:t>ВЫБИРАЕМ ТЕМУ ИССЛЕДОВА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3495600" y="180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4c22"/>
                </a:solidFill>
                <a:latin typeface="Comic Sans MS"/>
              </a:rPr>
              <a:t>Мы выбирали тему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4c22"/>
                </a:solidFill>
                <a:latin typeface="Comic Sans MS"/>
              </a:rPr>
              <a:t>так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324000" y="623736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хочешь, зарисуй её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23760" y="23760"/>
            <a:ext cx="8364600" cy="5428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142920" y="549360"/>
            <a:ext cx="88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ипотеза – это предположение, догадка, ещё не доказанная и не подтверждённая опытом. Нам для исследования нужно выдвинуть гипотезу или несколько гипотез по нашей теме. Обычно гипотезы начинаются со сло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1557360"/>
          <a:ext cx="5699160" cy="822240"/>
        </p:xfrm>
        <a:graphic>
          <a:graphicData uri="http://schemas.openxmlformats.org/drawingml/2006/table">
            <a:tbl>
              <a:tblPr/>
              <a:tblGrid>
                <a:gridCol w="2849400"/>
                <a:gridCol w="2849760"/>
              </a:tblGrid>
              <a:tr h="823320">
                <a:tc>
                  <a:txBody>
                    <a:bodyPr lIns="60120" rIns="6012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положим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, есл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пустим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можн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6"/>
          <p:cNvSpPr/>
          <p:nvPr/>
        </p:nvSpPr>
        <p:spPr>
          <a:xfrm>
            <a:off x="142920" y="2409840"/>
            <a:ext cx="877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умай и запиши (с помощью взрослого) или нарисуй свою гипотезу или гипотезы, если их несколько, по нашей теме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Загнутый угол 7"/>
          <p:cNvSpPr/>
          <p:nvPr/>
        </p:nvSpPr>
        <p:spPr>
          <a:xfrm>
            <a:off x="324000" y="3859200"/>
            <a:ext cx="2896920" cy="24750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Рисунок 8" descr="C:\Users\км\Pictures\Безымянный.png"/>
          <p:cNvPicPr/>
          <p:nvPr/>
        </p:nvPicPr>
        <p:blipFill>
          <a:blip r:embed="rId2"/>
          <a:stretch/>
        </p:blipFill>
        <p:spPr>
          <a:xfrm>
            <a:off x="3444840" y="4479840"/>
            <a:ext cx="2797200" cy="19875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C:\Users\км\Pictures\Безымянный.png"/>
          <p:cNvPicPr/>
          <p:nvPr/>
        </p:nvPicPr>
        <p:blipFill>
          <a:blip r:embed="rId3"/>
          <a:stretch/>
        </p:blipFill>
        <p:spPr>
          <a:xfrm>
            <a:off x="6486480" y="4352760"/>
            <a:ext cx="1895400" cy="2114640"/>
          </a:xfrm>
          <a:prstGeom prst="rect">
            <a:avLst/>
          </a:prstGeom>
          <a:ln w="0">
            <a:noFill/>
          </a:ln>
        </p:spPr>
      </p:pic>
      <p:grpSp>
        <p:nvGrpSpPr>
          <p:cNvPr id="235" name="Скругленная прямоугольная выноска 10"/>
          <p:cNvGrpSpPr/>
          <p:nvPr/>
        </p:nvGrpSpPr>
        <p:grpSpPr>
          <a:xfrm>
            <a:off x="9869400" y="6973920"/>
            <a:ext cx="474840" cy="390600"/>
            <a:chOff x="9869400" y="6973920"/>
            <a:chExt cx="474840" cy="390600"/>
          </a:xfrm>
        </p:grpSpPr>
        <p:pic>
          <p:nvPicPr>
            <p:cNvPr id="236" name="Скругленная прямоугольная выноска 10" descr=""/>
            <p:cNvPicPr/>
            <p:nvPr/>
          </p:nvPicPr>
          <p:blipFill>
            <a:blip r:embed="rId4"/>
            <a:stretch/>
          </p:blipFill>
          <p:spPr>
            <a:xfrm>
              <a:off x="9869400" y="6973920"/>
              <a:ext cx="4748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9941040" y="7023240"/>
              <a:ext cx="328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cxnSp>
        <p:nvCxnSpPr>
          <p:cNvPr id="238" name="Прямая со стрелкой 11"/>
          <p:cNvCxnSpPr/>
          <p:nvPr/>
        </p:nvCxnSpPr>
        <p:spPr>
          <a:xfrm>
            <a:off x="5659200" y="5454360"/>
            <a:ext cx="937080" cy="10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3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8915040" y="196920"/>
            <a:ext cx="2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Прямоугольник 16" descr=""/>
          <p:cNvPicPr/>
          <p:nvPr/>
        </p:nvPicPr>
        <p:blipFill>
          <a:blip r:embed="rId5"/>
          <a:stretch/>
        </p:blipFill>
        <p:spPr>
          <a:xfrm>
            <a:off x="3560760" y="3541680"/>
            <a:ext cx="538164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Прямоугольник 12"/>
          <p:cNvGrpSpPr/>
          <p:nvPr/>
        </p:nvGrpSpPr>
        <p:grpSpPr>
          <a:xfrm>
            <a:off x="5877000" y="5553000"/>
            <a:ext cx="3004920" cy="1262160"/>
            <a:chOff x="5877000" y="5553000"/>
            <a:chExt cx="3004920" cy="1262160"/>
          </a:xfrm>
        </p:grpSpPr>
        <p:pic>
          <p:nvPicPr>
            <p:cNvPr id="245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5877000" y="5553000"/>
              <a:ext cx="3004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940360" y="5589720"/>
              <a:ext cx="2879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47" name="Прямоугольник 1" descr=""/>
          <p:cNvPicPr/>
          <p:nvPr/>
        </p:nvPicPr>
        <p:blipFill>
          <a:blip r:embed="rId2"/>
          <a:stretch/>
        </p:blipFill>
        <p:spPr>
          <a:xfrm>
            <a:off x="30240" y="-23760"/>
            <a:ext cx="3767040" cy="5414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71280" y="549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ты можешь узнать что – то новое о том, что исследуешь? Рассмотри самые доступные и простые способы (методы) исследования. Выбери, какие методы помогут тебе в исследовании, отметь их </a:t>
            </a:r>
            <a:r>
              <a:rPr b="1" lang="ru-RU" sz="1800" spc="-1" strike="noStrike">
                <a:solidFill>
                  <a:srgbClr val="934c22"/>
                </a:solidFill>
                <a:latin typeface="Wingdings"/>
                <a:ea typeface="Wingdings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70000" y="1498680"/>
          <a:ext cx="8567640" cy="4460760"/>
        </p:xfrm>
        <a:graphic>
          <a:graphicData uri="http://schemas.openxmlformats.org/drawingml/2006/table">
            <a:tbl>
              <a:tblPr/>
              <a:tblGrid>
                <a:gridCol w="2832120"/>
                <a:gridCol w="2879640"/>
                <a:gridCol w="2855880"/>
              </a:tblGrid>
              <a:tr h="1371600">
                <a:tc>
                  <a:txBody>
                    <a:bodyPr lIns="60120" rIns="601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ума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мостоя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120" rIns="6012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120" rIns="601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смотреть 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но -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елефиль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0960">
                <a:tc>
                  <a:txBody>
                    <a:bodyPr lIns="60120" rIns="601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росить  у             других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120" rIns="60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ратиться  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пьюте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120" rIns="601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ве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спери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8200">
                <a:tc>
                  <a:txBody>
                    <a:bodyPr lIns="60120" rIns="601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смотре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кни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120" rIns="60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наблюд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120" rIns="6012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0120" marR="60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0" name="Скругленная прямоугольная выноска 4"/>
          <p:cNvGrpSpPr/>
          <p:nvPr/>
        </p:nvGrpSpPr>
        <p:grpSpPr>
          <a:xfrm>
            <a:off x="10266480" y="9551880"/>
            <a:ext cx="504720" cy="390600"/>
            <a:chOff x="10266480" y="9551880"/>
            <a:chExt cx="504720" cy="390600"/>
          </a:xfrm>
        </p:grpSpPr>
        <p:pic>
          <p:nvPicPr>
            <p:cNvPr id="251" name="Скругленная прямоугольная выноска 4" descr=""/>
            <p:cNvPicPr/>
            <p:nvPr/>
          </p:nvPicPr>
          <p:blipFill>
            <a:blip r:embed="rId3"/>
            <a:stretch/>
          </p:blipFill>
          <p:spPr>
            <a:xfrm>
              <a:off x="10266480" y="9551880"/>
              <a:ext cx="5047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0339560" y="9601200"/>
              <a:ext cx="3585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53" name="Рисунок 5" descr="C:\Users\км\Desktop\контр\IMG_2319.JPG"/>
          <p:cNvPicPr/>
          <p:nvPr/>
        </p:nvPicPr>
        <p:blipFill>
          <a:blip r:embed="rId4"/>
          <a:stretch/>
        </p:blipFill>
        <p:spPr>
          <a:xfrm>
            <a:off x="420840" y="1481040"/>
            <a:ext cx="148104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C:\Users\км\Desktop\контр\IMG_2319.JPG"/>
          <p:cNvPicPr/>
          <p:nvPr/>
        </p:nvPicPr>
        <p:blipFill>
          <a:blip r:embed="rId5"/>
          <a:stretch/>
        </p:blipFill>
        <p:spPr>
          <a:xfrm>
            <a:off x="450720" y="3054240"/>
            <a:ext cx="1470240" cy="15303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7" descr="C:\Users\км\Desktop\контр\IMG_2322.JPG"/>
          <p:cNvPicPr/>
          <p:nvPr/>
        </p:nvPicPr>
        <p:blipFill>
          <a:blip r:embed="rId6"/>
          <a:stretch/>
        </p:blipFill>
        <p:spPr>
          <a:xfrm>
            <a:off x="433440" y="4675320"/>
            <a:ext cx="1450800" cy="14396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8" descr="C:\Users\км\Desktop\контр\IMG_2321.JPG"/>
          <p:cNvPicPr/>
          <p:nvPr/>
        </p:nvPicPr>
        <p:blipFill>
          <a:blip r:embed="rId7"/>
          <a:stretch/>
        </p:blipFill>
        <p:spPr>
          <a:xfrm>
            <a:off x="4273560" y="2852640"/>
            <a:ext cx="1530360" cy="1530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9" descr="C:\Users\км\Desktop\контр\IMG_2319.JPG"/>
          <p:cNvPicPr/>
          <p:nvPr/>
        </p:nvPicPr>
        <p:blipFill>
          <a:blip r:embed="rId8"/>
          <a:stretch/>
        </p:blipFill>
        <p:spPr>
          <a:xfrm>
            <a:off x="4290840" y="4675320"/>
            <a:ext cx="1519560" cy="14875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0" descr="C:\Users\км\Desktop\контр\IMG_2319.JPG"/>
          <p:cNvPicPr/>
          <p:nvPr/>
        </p:nvPicPr>
        <p:blipFill>
          <a:blip r:embed="rId9"/>
          <a:stretch/>
        </p:blipFill>
        <p:spPr>
          <a:xfrm>
            <a:off x="7089840" y="3151080"/>
            <a:ext cx="1670040" cy="14637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1" descr="C:\Users\км\Desktop\контр\IMG_2319.JPG"/>
          <p:cNvPicPr/>
          <p:nvPr/>
        </p:nvPicPr>
        <p:blipFill>
          <a:blip r:embed="rId10"/>
          <a:stretch/>
        </p:blipFill>
        <p:spPr>
          <a:xfrm>
            <a:off x="7162920" y="1322280"/>
            <a:ext cx="1657080" cy="15066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4"/>
          <p:cNvSpPr/>
          <p:nvPr/>
        </p:nvSpPr>
        <p:spPr>
          <a:xfrm>
            <a:off x="5940360" y="569916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мы выбрали: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   19  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отгадай по алфавиту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1" descr=""/>
          <p:cNvPicPr/>
          <p:nvPr/>
        </p:nvPicPr>
        <p:blipFill>
          <a:blip r:embed="rId1"/>
          <a:stretch/>
        </p:blipFill>
        <p:spPr>
          <a:xfrm>
            <a:off x="103320" y="-12600"/>
            <a:ext cx="3998880" cy="54288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2"/>
          <p:cNvSpPr/>
          <p:nvPr/>
        </p:nvSpPr>
        <p:spPr>
          <a:xfrm>
            <a:off x="179280" y="692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м известно – прежде, чем начинать какую-либо работу, следует подумать. Исследования тоже нужно начинать с размышлений. Представь себе, что ты вдруг стал вулканом. Опиши один день своей воображаемой жизни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Прямоугольник 3"/>
          <p:cNvSpPr/>
          <p:nvPr/>
        </p:nvSpPr>
        <p:spPr>
          <a:xfrm>
            <a:off x="826920" y="22287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сшифруй наши пиктограммы, и ты узнаешь, что знаем о вулканах м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Загнутый угол 4"/>
          <p:cNvSpPr/>
          <p:nvPr/>
        </p:nvSpPr>
        <p:spPr>
          <a:xfrm>
            <a:off x="3492360" y="3301920"/>
            <a:ext cx="2159280" cy="26766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Загнутый угол 5"/>
          <p:cNvSpPr/>
          <p:nvPr/>
        </p:nvSpPr>
        <p:spPr>
          <a:xfrm>
            <a:off x="314280" y="3317760"/>
            <a:ext cx="2847960" cy="26766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Загнутый угол 6"/>
          <p:cNvSpPr/>
          <p:nvPr/>
        </p:nvSpPr>
        <p:spPr>
          <a:xfrm>
            <a:off x="6049800" y="3274920"/>
            <a:ext cx="2819520" cy="27194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Рисунок 9" descr=""/>
          <p:cNvPicPr/>
          <p:nvPr/>
        </p:nvPicPr>
        <p:blipFill>
          <a:blip r:embed="rId2"/>
          <a:stretch/>
        </p:blipFill>
        <p:spPr>
          <a:xfrm>
            <a:off x="539640" y="3427560"/>
            <a:ext cx="2200320" cy="23508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0" descr=""/>
          <p:cNvPicPr/>
          <p:nvPr/>
        </p:nvPicPr>
        <p:blipFill>
          <a:blip r:embed="rId3"/>
          <a:stretch/>
        </p:blipFill>
        <p:spPr>
          <a:xfrm>
            <a:off x="3789360" y="3735360"/>
            <a:ext cx="1341360" cy="20415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1" descr=""/>
          <p:cNvPicPr/>
          <p:nvPr/>
        </p:nvPicPr>
        <p:blipFill>
          <a:blip r:embed="rId4"/>
          <a:stretch/>
        </p:blipFill>
        <p:spPr>
          <a:xfrm>
            <a:off x="6689880" y="3427560"/>
            <a:ext cx="154116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1" descr=""/>
          <p:cNvPicPr/>
          <p:nvPr/>
        </p:nvPicPr>
        <p:blipFill>
          <a:blip r:embed="rId1"/>
          <a:stretch/>
        </p:blipFill>
        <p:spPr>
          <a:xfrm>
            <a:off x="30240" y="-42840"/>
            <a:ext cx="4243320" cy="54288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5"/>
          <p:cNvSpPr/>
          <p:nvPr/>
        </p:nvSpPr>
        <p:spPr>
          <a:xfrm>
            <a:off x="112680" y="4906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ного нового можно узнать, расспрашивая разных людей. Запиши или зарисуй информацию, полученную от других людей 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74" name="Загнутый угол 6"/>
          <p:cNvGrpSpPr/>
          <p:nvPr/>
        </p:nvGrpSpPr>
        <p:grpSpPr>
          <a:xfrm>
            <a:off x="5473800" y="1206360"/>
            <a:ext cx="3554280" cy="2335320"/>
            <a:chOff x="5473800" y="1206360"/>
            <a:chExt cx="3554280" cy="2335320"/>
          </a:xfrm>
        </p:grpSpPr>
        <p:pic>
          <p:nvPicPr>
            <p:cNvPr id="275" name="Загнутый угол 6" descr=""/>
            <p:cNvPicPr/>
            <p:nvPr/>
          </p:nvPicPr>
          <p:blipFill>
            <a:blip r:embed="rId2"/>
            <a:stretch/>
          </p:blipFill>
          <p:spPr>
            <a:xfrm>
              <a:off x="5473800" y="1206360"/>
              <a:ext cx="355428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535720" y="1246320"/>
              <a:ext cx="34290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77" name="Прямоугольник 7" descr=""/>
          <p:cNvPicPr/>
          <p:nvPr/>
        </p:nvPicPr>
        <p:blipFill>
          <a:blip r:embed="rId3"/>
          <a:stretch/>
        </p:blipFill>
        <p:spPr>
          <a:xfrm>
            <a:off x="317520" y="1219320"/>
            <a:ext cx="4572000" cy="768240"/>
          </a:xfrm>
          <a:prstGeom prst="rect">
            <a:avLst/>
          </a:prstGeom>
          <a:ln w="0">
            <a:noFill/>
          </a:ln>
        </p:spPr>
      </p:pic>
      <p:sp>
        <p:nvSpPr>
          <p:cNvPr id="278" name="Загнутый угол 8"/>
          <p:cNvSpPr/>
          <p:nvPr/>
        </p:nvSpPr>
        <p:spPr>
          <a:xfrm>
            <a:off x="136440" y="2060640"/>
            <a:ext cx="2995560" cy="31258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Загнутый угол 9"/>
          <p:cNvSpPr/>
          <p:nvPr/>
        </p:nvSpPr>
        <p:spPr>
          <a:xfrm>
            <a:off x="2957400" y="3382920"/>
            <a:ext cx="3054600" cy="3056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Рисунок 67" descr="Описание: J:\DCIM\119CANON\IMG_2867.JPG"/>
          <p:cNvPicPr/>
          <p:nvPr/>
        </p:nvPicPr>
        <p:blipFill>
          <a:blip r:embed="rId4"/>
          <a:stretch/>
        </p:blipFill>
        <p:spPr>
          <a:xfrm>
            <a:off x="317520" y="2205000"/>
            <a:ext cx="2525760" cy="26319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68" descr="Описание: J:\DCIM\119CANON\IMG_2867.JPG"/>
          <p:cNvPicPr/>
          <p:nvPr/>
        </p:nvPicPr>
        <p:blipFill>
          <a:blip r:embed="rId5"/>
          <a:stretch/>
        </p:blipFill>
        <p:spPr>
          <a:xfrm>
            <a:off x="3132000" y="3465360"/>
            <a:ext cx="2600640" cy="28213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Загнутый угол 14"/>
          <p:cNvSpPr/>
          <p:nvPr/>
        </p:nvSpPr>
        <p:spPr>
          <a:xfrm>
            <a:off x="6558120" y="3933720"/>
            <a:ext cx="2246040" cy="25052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Рисунок 15" descr=""/>
          <p:cNvPicPr/>
          <p:nvPr/>
        </p:nvPicPr>
        <p:blipFill>
          <a:blip r:embed="rId6"/>
          <a:srcRect l="0" t="0" r="0" b="-2725"/>
          <a:stretch/>
        </p:blipFill>
        <p:spPr>
          <a:xfrm>
            <a:off x="7020000" y="4135320"/>
            <a:ext cx="1322280" cy="21002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1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7" name="Скругленная прямоугольная выноска 17"/>
          <p:cNvGrpSpPr/>
          <p:nvPr/>
        </p:nvGrpSpPr>
        <p:grpSpPr>
          <a:xfrm>
            <a:off x="10234440" y="7211880"/>
            <a:ext cx="562320" cy="444600"/>
            <a:chOff x="10234440" y="7211880"/>
            <a:chExt cx="562320" cy="444600"/>
          </a:xfrm>
        </p:grpSpPr>
        <p:pic>
          <p:nvPicPr>
            <p:cNvPr id="288" name="Скругленная прямоугольная выноска 17" descr=""/>
            <p:cNvPicPr/>
            <p:nvPr/>
          </p:nvPicPr>
          <p:blipFill>
            <a:blip r:embed="rId7"/>
            <a:stretch/>
          </p:blipFill>
          <p:spPr>
            <a:xfrm>
              <a:off x="10234440" y="7211880"/>
              <a:ext cx="5623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0310760" y="7261200"/>
              <a:ext cx="409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0" name="Rectangle 13"/>
          <p:cNvSpPr/>
          <p:nvPr/>
        </p:nvSpPr>
        <p:spPr>
          <a:xfrm>
            <a:off x="335160" y="6306840"/>
            <a:ext cx="80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 книгах, которые нам помогли, ты узнаешь на последней страниц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Загнутый угол 8"/>
          <p:cNvSpPr/>
          <p:nvPr/>
        </p:nvSpPr>
        <p:spPr>
          <a:xfrm>
            <a:off x="6138720" y="4597560"/>
            <a:ext cx="2847960" cy="20286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-42840"/>
            <a:ext cx="3725640" cy="542880"/>
          </a:xfrm>
          <a:prstGeom prst="rect">
            <a:avLst/>
          </a:prstGeom>
          <a:ln w="0">
            <a:noFill/>
          </a:ln>
        </p:spPr>
      </p:pic>
      <p:sp>
        <p:nvSpPr>
          <p:cNvPr id="293" name="Загнутый угол 2"/>
          <p:cNvSpPr/>
          <p:nvPr/>
        </p:nvSpPr>
        <p:spPr>
          <a:xfrm>
            <a:off x="217440" y="1628640"/>
            <a:ext cx="2333520" cy="1886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4" name="Загнутый угол 3"/>
          <p:cNvGrpSpPr/>
          <p:nvPr/>
        </p:nvGrpSpPr>
        <p:grpSpPr>
          <a:xfrm>
            <a:off x="5407200" y="1347840"/>
            <a:ext cx="3554280" cy="2627280"/>
            <a:chOff x="5407200" y="1347840"/>
            <a:chExt cx="3554280" cy="2627280"/>
          </a:xfrm>
        </p:grpSpPr>
        <p:pic>
          <p:nvPicPr>
            <p:cNvPr id="295" name="Загнутый угол 3" descr=""/>
            <p:cNvPicPr/>
            <p:nvPr/>
          </p:nvPicPr>
          <p:blipFill>
            <a:blip r:embed="rId2"/>
            <a:stretch/>
          </p:blipFill>
          <p:spPr>
            <a:xfrm>
              <a:off x="5407200" y="1347840"/>
              <a:ext cx="355428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68760" y="1382760"/>
              <a:ext cx="34290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52280" y="4629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ного новой информации содержится в самых разных фильмах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пиши или зарисуй, что нового о  вулканах ты узнал из фильмов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Рисунок 6" descr=""/>
          <p:cNvPicPr/>
          <p:nvPr/>
        </p:nvPicPr>
        <p:blipFill>
          <a:blip r:embed="rId3"/>
          <a:stretch/>
        </p:blipFill>
        <p:spPr>
          <a:xfrm>
            <a:off x="388800" y="1738440"/>
            <a:ext cx="199872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Загнутый угол 7"/>
          <p:cNvSpPr/>
          <p:nvPr/>
        </p:nvSpPr>
        <p:spPr>
          <a:xfrm>
            <a:off x="3335400" y="3286080"/>
            <a:ext cx="3371760" cy="14288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1" name="Рисунок 81" descr=""/>
          <p:cNvPicPr/>
          <p:nvPr/>
        </p:nvPicPr>
        <p:blipFill>
          <a:blip r:embed="rId4"/>
          <a:stretch/>
        </p:blipFill>
        <p:spPr>
          <a:xfrm>
            <a:off x="3786120" y="3432240"/>
            <a:ext cx="2521080" cy="10857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Загнутый угол 12"/>
          <p:cNvSpPr/>
          <p:nvPr/>
        </p:nvSpPr>
        <p:spPr>
          <a:xfrm>
            <a:off x="284040" y="3816360"/>
            <a:ext cx="2847960" cy="2200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5" name="Рисунок 13" descr=""/>
          <p:cNvPicPr/>
          <p:nvPr/>
        </p:nvPicPr>
        <p:blipFill>
          <a:blip r:embed="rId5"/>
          <a:stretch/>
        </p:blipFill>
        <p:spPr>
          <a:xfrm>
            <a:off x="388800" y="4067280"/>
            <a:ext cx="2640240" cy="148248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11" descr=""/>
          <p:cNvPicPr/>
          <p:nvPr/>
        </p:nvPicPr>
        <p:blipFill>
          <a:blip r:embed="rId6"/>
          <a:stretch/>
        </p:blipFill>
        <p:spPr>
          <a:xfrm>
            <a:off x="2610000" y="1420920"/>
            <a:ext cx="2797200" cy="5047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1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118080" y="5924880"/>
            <a:ext cx="58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звание фильма и где его найти, ты узнаешь н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дней странице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9" name="Рисунок 18" descr=""/>
          <p:cNvPicPr/>
          <p:nvPr/>
        </p:nvPicPr>
        <p:blipFill>
          <a:blip r:embed="rId7"/>
          <a:stretch/>
        </p:blipFill>
        <p:spPr>
          <a:xfrm>
            <a:off x="6389640" y="4714920"/>
            <a:ext cx="2495520" cy="1668240"/>
          </a:xfrm>
          <a:prstGeom prst="rect">
            <a:avLst/>
          </a:prstGeom>
          <a:ln w="0">
            <a:noFill/>
          </a:ln>
        </p:spPr>
      </p:pic>
      <p:pic>
        <p:nvPicPr>
          <p:cNvPr id="310" name="Приложение 2.wmv" descr=""/>
          <p:cNvPicPr/>
          <p:nvPr/>
        </p:nvPicPr>
        <p:blipFill>
          <a:blip r:embed="rId8"/>
          <a:stretch/>
        </p:blipFill>
        <p:spPr>
          <a:xfrm>
            <a:off x="2975040" y="1736640"/>
            <a:ext cx="2230200" cy="1347840"/>
          </a:xfrm>
          <a:prstGeom prst="rect">
            <a:avLst/>
          </a:prstGeom>
          <a:ln w="0">
            <a:noFill/>
          </a:ln>
        </p:spPr>
      </p:pic>
      <p:cxnSp>
        <p:nvCxnSpPr>
          <p:cNvPr id="311" name="Прямая со стрелкой 19"/>
          <p:cNvCxnSpPr/>
          <p:nvPr/>
        </p:nvCxnSpPr>
        <p:spPr>
          <a:xfrm flipH="1">
            <a:off x="4533840" y="1738080"/>
            <a:ext cx="727560" cy="3150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Прямая со стрелкой 21"/>
          <p:cNvCxnSpPr/>
          <p:nvPr/>
        </p:nvCxnSpPr>
        <p:spPr>
          <a:xfrm>
            <a:off x="2896920" y="1793520"/>
            <a:ext cx="703800" cy="3150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TextBox 4" descr=""/>
          <p:cNvPicPr/>
          <p:nvPr/>
        </p:nvPicPr>
        <p:blipFill>
          <a:blip r:embed="rId9"/>
          <a:stretch/>
        </p:blipFill>
        <p:spPr>
          <a:xfrm>
            <a:off x="3309840" y="2157480"/>
            <a:ext cx="1560600" cy="52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6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-79200"/>
            <a:ext cx="3852720" cy="549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16" name="Загнутый угол 3"/>
          <p:cNvGrpSpPr/>
          <p:nvPr/>
        </p:nvGrpSpPr>
        <p:grpSpPr>
          <a:xfrm>
            <a:off x="5516640" y="1378080"/>
            <a:ext cx="3548160" cy="2627280"/>
            <a:chOff x="5516640" y="1378080"/>
            <a:chExt cx="3548160" cy="2627280"/>
          </a:xfrm>
        </p:grpSpPr>
        <p:pic>
          <p:nvPicPr>
            <p:cNvPr id="317" name="Загнутый угол 3" descr=""/>
            <p:cNvPicPr/>
            <p:nvPr/>
          </p:nvPicPr>
          <p:blipFill>
            <a:blip r:embed="rId2"/>
            <a:stretch/>
          </p:blipFill>
          <p:spPr>
            <a:xfrm>
              <a:off x="5516640" y="1378080"/>
              <a:ext cx="3548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6760" y="1413000"/>
              <a:ext cx="342900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19" name="Rectangle 3"/>
          <p:cNvSpPr/>
          <p:nvPr/>
        </p:nvSpPr>
        <p:spPr>
          <a:xfrm flipV="1" rot="10800000">
            <a:off x="125280" y="501480"/>
            <a:ext cx="888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ово «эксперимент» означает проба, опыт. Это главный метод познания в большинстве наук. Зарисуй или запиши план, а затем результаты своего эксперимента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Эксперимент по нашей теме надо проводить только со взрослыми!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Загнутый угол 7"/>
          <p:cNvSpPr/>
          <p:nvPr/>
        </p:nvSpPr>
        <p:spPr>
          <a:xfrm>
            <a:off x="219240" y="2170080"/>
            <a:ext cx="2847960" cy="241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1" name="Рисунок 21" descr="Описание: J:\DCIM\119CANON\IMG_2887.JPG"/>
          <p:cNvPicPr/>
          <p:nvPr/>
        </p:nvPicPr>
        <p:blipFill>
          <a:blip r:embed="rId3"/>
          <a:stretch/>
        </p:blipFill>
        <p:spPr>
          <a:xfrm>
            <a:off x="324000" y="2276640"/>
            <a:ext cx="2638440" cy="1981080"/>
          </a:xfrm>
          <a:prstGeom prst="rect">
            <a:avLst/>
          </a:prstGeom>
          <a:ln w="0">
            <a:noFill/>
          </a:ln>
        </p:spPr>
      </p:pic>
      <p:sp>
        <p:nvSpPr>
          <p:cNvPr id="322" name="Загнутый угол 8"/>
          <p:cNvSpPr/>
          <p:nvPr/>
        </p:nvSpPr>
        <p:spPr>
          <a:xfrm>
            <a:off x="3147840" y="2438280"/>
            <a:ext cx="2848320" cy="241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0" y="2438280"/>
            <a:ext cx="360" cy="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66840" y="180180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Рассмотри этапы нашего эксперимент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6" name="Рисунок 28" descr="Описание: J:\DCIM\119CANON\IMG_2892.JPG"/>
          <p:cNvPicPr/>
          <p:nvPr/>
        </p:nvPicPr>
        <p:blipFill>
          <a:blip r:embed="rId4"/>
          <a:stretch/>
        </p:blipFill>
        <p:spPr>
          <a:xfrm>
            <a:off x="3228840" y="2590920"/>
            <a:ext cx="2638440" cy="1981080"/>
          </a:xfrm>
          <a:prstGeom prst="rect">
            <a:avLst/>
          </a:prstGeom>
          <a:ln w="0">
            <a:noFill/>
          </a:ln>
        </p:spPr>
      </p:pic>
      <p:sp>
        <p:nvSpPr>
          <p:cNvPr id="327" name="Загнутый угол 14"/>
          <p:cNvSpPr/>
          <p:nvPr/>
        </p:nvSpPr>
        <p:spPr>
          <a:xfrm>
            <a:off x="177840" y="4435560"/>
            <a:ext cx="2784600" cy="2346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8" name="Рисунок 15" descr="J:\DCIM\119CANON\IMG_2889.JPG"/>
          <p:cNvPicPr/>
          <p:nvPr/>
        </p:nvPicPr>
        <p:blipFill>
          <a:blip r:embed="rId5"/>
          <a:stretch/>
        </p:blipFill>
        <p:spPr>
          <a:xfrm>
            <a:off x="324000" y="4602240"/>
            <a:ext cx="2388960" cy="1812960"/>
          </a:xfrm>
          <a:prstGeom prst="rect">
            <a:avLst/>
          </a:prstGeom>
          <a:ln w="0">
            <a:noFill/>
          </a:ln>
        </p:spPr>
      </p:pic>
      <p:sp>
        <p:nvSpPr>
          <p:cNvPr id="329" name="Загнутый угол 16"/>
          <p:cNvSpPr/>
          <p:nvPr/>
        </p:nvSpPr>
        <p:spPr>
          <a:xfrm>
            <a:off x="5867280" y="4267080"/>
            <a:ext cx="2847960" cy="241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0" name="Рисунок 17" descr="J:\DCIM\119CANON\IMG_2894.JPG"/>
          <p:cNvPicPr/>
          <p:nvPr/>
        </p:nvPicPr>
        <p:blipFill>
          <a:blip r:embed="rId6"/>
          <a:stretch/>
        </p:blipFill>
        <p:spPr>
          <a:xfrm>
            <a:off x="5970600" y="4435560"/>
            <a:ext cx="2639880" cy="197964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3"/>
          <p:cNvSpPr/>
          <p:nvPr/>
        </p:nvSpPr>
        <p:spPr>
          <a:xfrm>
            <a:off x="533520" y="3780000"/>
            <a:ext cx="875520" cy="41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- сод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Прямоугольник 18"/>
          <p:cNvSpPr/>
          <p:nvPr/>
        </p:nvSpPr>
        <p:spPr>
          <a:xfrm>
            <a:off x="453960" y="6013440"/>
            <a:ext cx="188316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– немного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ющего средств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Прямоугольник 19"/>
          <p:cNvSpPr/>
          <p:nvPr/>
        </p:nvSpPr>
        <p:spPr>
          <a:xfrm>
            <a:off x="3474360" y="4211640"/>
            <a:ext cx="1977480" cy="41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 -  ¼ стакана уксус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6062040" y="6207120"/>
            <a:ext cx="2207520" cy="41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 – вулкан «проснулся»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-42840" y="-6480"/>
            <a:ext cx="3352680" cy="542880"/>
          </a:xfrm>
          <a:prstGeom prst="rect">
            <a:avLst/>
          </a:prstGeom>
          <a:ln w="0">
            <a:noFill/>
          </a:ln>
        </p:spPr>
      </p:pic>
      <p:grpSp>
        <p:nvGrpSpPr>
          <p:cNvPr id="336" name="Загнутый угол 3"/>
          <p:cNvGrpSpPr/>
          <p:nvPr/>
        </p:nvGrpSpPr>
        <p:grpSpPr>
          <a:xfrm>
            <a:off x="4363920" y="1809720"/>
            <a:ext cx="4084920" cy="4730760"/>
            <a:chOff x="4363920" y="1809720"/>
            <a:chExt cx="4084920" cy="4730760"/>
          </a:xfrm>
        </p:grpSpPr>
        <p:pic>
          <p:nvPicPr>
            <p:cNvPr id="337" name="Загнутый угол 3" descr=""/>
            <p:cNvPicPr/>
            <p:nvPr/>
          </p:nvPicPr>
          <p:blipFill>
            <a:blip r:embed="rId2"/>
            <a:stretch/>
          </p:blipFill>
          <p:spPr>
            <a:xfrm>
              <a:off x="4363920" y="1809720"/>
              <a:ext cx="408492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427640" y="1844640"/>
              <a:ext cx="3960720" cy="39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339" name="Рисунок 70" descr="Описание: J:\DCIM\119CANON\IMG_2899.JPG"/>
          <p:cNvPicPr/>
          <p:nvPr/>
        </p:nvPicPr>
        <p:blipFill>
          <a:blip r:embed="rId3"/>
          <a:stretch/>
        </p:blipFill>
        <p:spPr>
          <a:xfrm>
            <a:off x="4568760" y="1989000"/>
            <a:ext cx="3459240" cy="3915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89000" y="588600"/>
            <a:ext cx="884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т, наконец, собраны необходимые сведения, проведены эксперименты, подготовлены выводы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перь надо поделиться своими знаниями, рассказать о том, что узнал другим людям. Надо подготовить небольшой доклад, который можно составить по такому плану: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2481120"/>
          <a:ext cx="3827520" cy="3567240"/>
        </p:xfrm>
        <a:graphic>
          <a:graphicData uri="http://schemas.openxmlformats.org/drawingml/2006/table">
            <a:tbl>
              <a:tblPr/>
              <a:tblGrid>
                <a:gridCol w="3540240"/>
                <a:gridCol w="287280"/>
              </a:tblGrid>
              <a:tr h="329256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чему выбрана эта т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ие гипотезы проверялис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ие использовались методы и средства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проводилось исследов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удалось узнать и какие выводы сдела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бы ты еще хотел узнать про вулка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1:02:17Z</dcterms:created>
  <dc:creator>Admin</dc:creator>
  <dc:description/>
  <dc:language>en-US</dc:language>
  <cp:lastModifiedBy>Admin</cp:lastModifiedBy>
  <dcterms:modified xsi:type="dcterms:W3CDTF">2015-02-05T10:52:28Z</dcterms:modified>
  <cp:revision>22</cp:revision>
  <dc:subject/>
  <dc:title>Презентация PowerPoint</dc:title>
</cp:coreProperties>
</file>